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D846-2D53-442C-9681-67CEFC4A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41FA-DDC3-4E1E-A26F-DC9944085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DBED-7AA9-409E-8EFC-5FD1BE9E8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CFD-3A27-4ACF-A212-1C4B8045A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9577-47D0-48CC-A698-96D1D4FD3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28E-F297-465A-86DD-A593308B3D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B776-F88B-48D5-9D6B-FE8F9E4AC7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2E0B-F825-46CA-B1D7-3DAA874C8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366-9DCD-4E68-A8E7-28A1A2161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954A-0C1B-4BCF-88B6-B1FE1B249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FF1-B429-4069-8DCE-A570E496AC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96D3-39E0-4F06-8B06-75D5D02F34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AD8-A76E-4BB2-A0FC-A29484644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A6A-68A8-4BEA-B7BD-E5627483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FE5-AB79-4EB7-8098-90C8625A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F42-69F9-406A-BACB-9FDB60C7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267-1C6D-4A1B-8470-2CF238A8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4DD-CB45-4C93-8397-74AB7D27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D70F-D183-4F15-9EB3-5B97BEC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4E7-D0DA-4072-9D54-552905A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EA4F-DE92-4002-87C3-453EF1C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144-E53D-4739-B391-86F4FFC0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C9C7-CAD7-46CA-BC89-8E84FB38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B067-5B02-4290-895F-99396C1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326-3420-4996-BB37-40E2ED88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1EE-E9D6-47F1-8D1C-44A308C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BC6E-6013-4F3C-B974-37866CF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750A-0E56-45D0-B23A-401DAE4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8784-4AAF-4D3A-A552-E1B85FA5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868B-40E9-4871-A677-C3E8A08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46A-EAB6-4965-86DB-34BCB46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64F-5225-41CB-AA6C-5E2594FE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4F5-15B4-4747-9C19-406077A9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2B7-470D-42E9-8BE6-C38B617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D9A-605B-4B34-9282-7658BCF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16D-197F-4336-A2C9-0A9881B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216-9EC3-4AC2-A4CA-7CE9A51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9C0-5767-4665-857E-58D27A8FF43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4B3-2F33-4C36-8E3A-04F7881BC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387-A0B7-4656-B073-A143B346495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A71-0988-4F3B-96A0-C60E98F9E3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B4C8-DF0C-4800-9DFF-36A3DEF61BD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856-A35F-4488-8E48-883876AAE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Learner Centric eLearning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86200" y="2971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i Crabtree &amp; Missy Gre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ilton County Virtual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tanooga, Tennes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686-02BF-4F54-B160-D3D0D51CFBC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871-A877-4FD5-940B-39FD2913B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eacher train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student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adjustments to learning path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assignments to remediate learning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the student at his/her instruc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the student to experience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unic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Communication with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Vi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Progress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Grad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04C-C9C8-4E76-9976-E053EE0AB7A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A0C-C005-41ED-BC23-E070EB333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3538-749F-49EE-B8E2-CB6BF48F619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8B1E-72C6-494E-9DF3-8368E39696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unication and student suppo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6" descr="l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lete 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5389560" cy="6483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276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960" y="3809880"/>
            <a:ext cx="17323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de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3B4E-4AEA-412A-A4BD-46F7D88A51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463C-472E-4E1C-A8F1-144973B39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8" descr="Summary 1"/>
          <p:cNvPicPr/>
          <p:nvPr/>
        </p:nvPicPr>
        <p:blipFill>
          <a:blip r:embed="rId1"/>
          <a:stretch/>
        </p:blipFill>
        <p:spPr>
          <a:xfrm>
            <a:off x="3048120" y="1905120"/>
            <a:ext cx="579096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5475-666B-45A8-9098-0E3A307B4BF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E550-9705-4A02-A237-6102224E67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Summary 2"/>
          <p:cNvPicPr/>
          <p:nvPr/>
        </p:nvPicPr>
        <p:blipFill>
          <a:blip r:embed="rId1"/>
          <a:stretch/>
        </p:blipFill>
        <p:spPr>
          <a:xfrm>
            <a:off x="3048120" y="1752480"/>
            <a:ext cx="5487840" cy="431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CD6-C3B9-4DEE-B533-DA6BE8D7B17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B02-1385-4C10-A612-AE66C42E5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Summary 3"/>
          <p:cNvPicPr/>
          <p:nvPr/>
        </p:nvPicPr>
        <p:blipFill>
          <a:blip r:embed="rId1"/>
          <a:stretch/>
        </p:blipFill>
        <p:spPr>
          <a:xfrm>
            <a:off x="3048120" y="1600200"/>
            <a:ext cx="5707080" cy="426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B556-FEBE-40E0-B2B9-DCF84E2B466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776-7DEC-46EC-9B30-000BA62CE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xt Steps 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needs and tech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upport for L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AE9-C642-4049-A0DB-9A3DDDD362E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D8E1-9BF7-4DAE-8E4B-3C9959812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i Crab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tree_d@hcd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de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y Gre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e_michelle@hcd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3A9-6656-4526-8D85-AC9A401E2D2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FCF-5754-4530-B2E3-E9812E12C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4" descr="This is a test"/>
          <p:cNvPicPr/>
          <p:nvPr/>
        </p:nvPicPr>
        <p:blipFill>
          <a:blip r:embed="rId1"/>
          <a:stretch/>
        </p:blipFill>
        <p:spPr>
          <a:xfrm>
            <a:off x="3276720" y="1981080"/>
            <a:ext cx="5181480" cy="440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6F3-F48E-458C-8A71-F7B06D88652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89A-D71F-43C5-82E3-80C3453FD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ief histor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-led virtual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erved up to 30 districts statewide concur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n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many needs:  credit recovery, teacher shortages, issues of equity, flexible scheduling, AP, student transfers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examples . . . Marion/Wi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AC78-AB02-42B4-94F7-2EAC3877253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12D-C1F6-4C52-948E-D8D0B3E18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 Educational Technology Plan 2010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of the 21st century learning described in this plan calls for engaging and empowering learning experiences for all learner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ation of this type only possible with the use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virtual programs too closely mirror F2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, individualization, engaging courseware = new model of learner-centered e-lear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C4B-5F4B-4E4D-9FE8-36450DDBBAE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4D6-AB92-483B-B8F0-5D9AA9944F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gular Summer Progra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courseware from CompassLearning Odyss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 diagnostic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credit recovery learning paths aligned to standards with ability to test out of content already mas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787-55E7-4A67-A957-A258CDDA86A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529-00C3-4E63-8EA8-C8779B452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w summer progra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tle I Elementary and Middle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20 of lowest performing students in th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address both Math &amp;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lab with machines running Windows XP or later or M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facilitator - training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 lunch and sn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 and small refundable registration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6D5-FE4A-4E39-BF6F-3AED7DCE6B2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213C-6CDB-4464-B7C4-E4C8A4F15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ine school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Elementary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iddle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3% successfully completed their co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% received refunds (met attendance requirement and successfully comple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C78E-7FAE-445A-8C71-AD149CB735B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B12-E61F-41B2-8216-2F24A762B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number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7 Course compl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 Successful completions of this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7 Unique stu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2% Male, 33% Fem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% African American, 24% White, .01% Hisp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8C3-D81E-49C8-B94D-7A561C0FCEE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557-AE30-439A-9599-56378F9812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reating the learning path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 provided TCAP data and reading levels of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is data, learning paths wer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4:09:56Z</dcterms:created>
  <dc:creator/>
  <dc:description/>
  <dc:language>en-US</dc:language>
  <cp:lastModifiedBy>Debi Crabtree</cp:lastModifiedBy>
  <cp:lastPrinted>1904-01-01T00:00:00Z</cp:lastPrinted>
  <dcterms:modified xsi:type="dcterms:W3CDTF">2010-12-01T19:03:24Z</dcterms:modified>
  <cp:revision>24</cp:revision>
  <dc:subject/>
  <dc:title>General</dc:title>
</cp:coreProperties>
</file>